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97C-0577-41FB-9523-B9A3E13F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467-0E8B-4F4B-9BD8-11DAA3FE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488-6FCF-4746-9DA4-92994594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0F5-023D-4504-8201-86CB6451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1651-7901-43F5-9397-AD6CFB40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0D07-35E8-4FC2-B7AB-AAA0D2B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C3A6-E6AB-4AD6-9BB2-E63420E8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3E76-4573-462E-869B-5664CB1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4D90-16AF-411A-AAA9-8F41196D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470-B6EA-494F-957D-88601AA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C129-E369-4115-8BF3-C4CF6F0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BF9-ADCE-414B-9E55-931D28C0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D354-85FC-4F32-B403-7FEF9CA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2289-D31B-4021-81C2-DF11B13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6471-008E-491F-A846-CA1DEE46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CB9D-C08D-41A4-B887-DE56D2BB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DFDC-015E-4375-ACF8-57727CFC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E4EA-CAAB-4B7C-AD98-A2748285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2925-16B0-43DC-8958-2F6DBE3B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7454-26F7-4AE6-A32B-D8A6C33D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73D0-54A4-4231-9EAF-425326B8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C40F-888E-4BDD-AD38-46D45C7D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253-37E0-454F-9ADE-7556A52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8BC5-08FC-428A-A8D6-61DB045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3D41-D7E2-443B-B114-19C1A28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8A61-E1B5-4729-84AC-7C2E1428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DEA2-C7C0-4094-8DC0-7C38BC6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C04A-6535-4421-9545-F373A2A9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F481-0ABC-48E4-98A1-F9ADD7C3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491D-DF9A-4503-BFC0-F78EF09F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7983-A53F-4CF0-944F-15BF3198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AC2E-F031-4CFA-80BD-DE3D1D88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5FFE-F783-455A-B12E-79F2B843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E6E-7D8E-4345-8869-1538E5D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0A20-FC02-40B4-AA24-4910DDF9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326A-6418-4B34-A9FD-153273B6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0A5F-0ADE-456E-B043-00AE493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E752-CF13-4661-8531-EA436E57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7DFE-27D0-4D4E-B12B-261BFDAD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80C1-FA1F-41F5-9157-7C477943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96BA-5868-4EE7-8EDF-D1AA772F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1C5D-B285-4E9C-BD83-74AB6C78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FE61-649F-461A-8652-32002037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D8E5C-CDE6-4629-9F9E-FDB9870A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43C-A7DE-407F-95A5-781FF424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25BF-43BF-46A7-88DF-96283ED2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37CA-088F-49F8-8CE0-F2A78531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A7F4-A477-4C9B-8D45-A11BF19C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B1B99-F490-4D1A-87C5-3E034496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7B2E2-509E-403E-924A-9EA2A82D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2542C-A5C0-4495-95A3-6316237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E02F-B7B4-4A58-A344-BFC045D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1770-36B8-49F7-93B7-8A958BB7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A857-4982-474C-9A01-2CF7BC37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3199-5942-4D20-B145-B1B0A79A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BE8-F0D0-4F2F-A08A-F6682AFC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0C3F1-6E04-495C-B55A-C7070F4C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C79D-FA7A-4B6F-8CAE-A6A2EF5F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4243D-58F5-4751-8722-DEEDDD7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FB4B9-C648-4227-83DB-A90FEBA0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A901A-2A17-482C-871D-948699B5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CCBF1-058C-4C72-BF14-0A011C1B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EB41-ED77-4065-A21A-A98F8EF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7FC6A-DE0D-479D-AEC4-58023CA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7529-831D-433B-88FC-9AD469B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D04C4-0398-4B7A-A425-066111D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86C-9A4E-4B36-ACF0-1578BE67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D13A1-5D78-4E5D-8C06-AC3C41EA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50AA-FE5D-43E8-98C5-9E80C840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A9AC-2834-425C-B32A-D949082F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0D4-6F5D-49C4-9F88-F4DFD1A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BCD-B878-49DE-96ED-200EC1E4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0D051-3F77-4C41-A38A-99FF21F7B73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2E9AE-E013-4CE2-9DBC-7E0613EA041A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0E36A-58FA-4A6D-BF60-4A621CE4652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3D22D-1F4A-470C-B455-DAF00283127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AF033-F44F-4D12-AE00-CC7CA7B7F93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40EF5-D53D-4499-B220-24208D39425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2916360" y="404640"/>
            <a:ext cx="320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INISTR</a:t>
            </a:r>
            <a:r>
              <a:rPr b="1" lang="sl-SI" sz="1200" spc="-1" strike="noStrike">
                <a:solidFill>
                  <a:srgbClr val="000000"/>
                </a:solidFill>
                <a:latin typeface="Arial Narrow"/>
                <a:ea typeface="Arial"/>
              </a:rPr>
              <a:t>STVO ZA ZUNANJE ZADEVE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REPUBLI</a:t>
            </a:r>
            <a:r>
              <a:rPr b="1" lang="sl-SI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A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SLOVENI</a:t>
            </a:r>
            <a:r>
              <a:rPr b="1" lang="sl-SI" sz="1200" spc="-1" strike="noStrike">
                <a:solidFill>
                  <a:srgbClr val="000000"/>
                </a:solidFill>
                <a:latin typeface="Arial Narrow"/>
                <a:ea typeface="Arial"/>
              </a:rPr>
              <a:t>J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A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7" name="Picture 9" descr="grb-barvni"/>
          <p:cNvPicPr/>
          <p:nvPr/>
        </p:nvPicPr>
        <p:blipFill>
          <a:blip r:embed="rId1"/>
          <a:stretch/>
        </p:blipFill>
        <p:spPr>
          <a:xfrm>
            <a:off x="4211640" y="189000"/>
            <a:ext cx="487440" cy="6206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9640" y="4581360"/>
            <a:ext cx="815832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cionalna koordinato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250920" y="981000"/>
            <a:ext cx="8642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999999"/>
                </a:solidFill>
                <a:latin typeface="Arial"/>
                <a:ea typeface="Arial"/>
              </a:rPr>
              <a:t>SLOVENIJA IN EU MAKROREGIONALNE STRATEGIJE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60" name="Picture 9" descr="The EU Strategy for the Danube Region"/>
          <p:cNvPicPr/>
          <p:nvPr/>
        </p:nvPicPr>
        <p:blipFill>
          <a:blip r:embed="rId2"/>
          <a:stretch/>
        </p:blipFill>
        <p:spPr>
          <a:xfrm>
            <a:off x="185760" y="333360"/>
            <a:ext cx="1361880" cy="504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The EU Strategy for the Adriatic Ionian"/>
          <p:cNvPicPr/>
          <p:nvPr/>
        </p:nvPicPr>
        <p:blipFill>
          <a:blip r:embed="rId3"/>
          <a:stretch/>
        </p:blipFill>
        <p:spPr>
          <a:xfrm>
            <a:off x="1882800" y="123840"/>
            <a:ext cx="1905120" cy="561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eusalp logo"/>
          <p:cNvPicPr/>
          <p:nvPr/>
        </p:nvPicPr>
        <p:blipFill>
          <a:blip r:embed="rId4"/>
          <a:stretch/>
        </p:blipFill>
        <p:spPr>
          <a:xfrm>
            <a:off x="6588000" y="81000"/>
            <a:ext cx="1762200" cy="1009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\\mzzdm01.dkpmzz.si\Uporabniki\MZZ\A1603\Pictures\mladika_pogled1_M.jpg"/>
          <p:cNvPicPr/>
          <p:nvPr/>
        </p:nvPicPr>
        <p:blipFill>
          <a:blip r:embed="rId5"/>
          <a:stretch/>
        </p:blipFill>
        <p:spPr>
          <a:xfrm>
            <a:off x="3286080" y="3141720"/>
            <a:ext cx="25718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7750080" y="1600200"/>
            <a:ext cx="959040" cy="1023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2874960" y="210960"/>
            <a:ext cx="5935680" cy="65595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7600" y="439200"/>
            <a:ext cx="799164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IDNOST –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klajeno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d mednarodnih konvencij do lokalnih ukre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1600200"/>
            <a:ext cx="335916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200" spc="-1" strike="noStrike">
                <a:solidFill>
                  <a:srgbClr val="000000"/>
                </a:solidFill>
                <a:latin typeface="Arial"/>
              </a:rPr>
              <a:t>25. 9. – 1.10.2016 IZ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TEDEN SREDOZEMSKE OBALE / </a:t>
            </a:r>
            <a:r>
              <a:rPr b="1" lang="sl-SI" sz="2200" spc="-1" strike="noStrike">
                <a:solidFill>
                  <a:srgbClr val="00b050"/>
                </a:solidFill>
                <a:latin typeface="Arial"/>
              </a:rPr>
              <a:t>TEDEN MAKROREGIONALNIH STRATEG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nkreten prikaz usklajenih prizadevanj akterjev Podonavske, Jadransko jonske in Alpske regij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za usklajeno delovanje na področju ekološke povezljivosti (modri in zeleni koridorji/ zavarovana območj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G 7 in AG 5 EUSALP + TSG 3 EUSAIR in EUSAIR FP  + PA 10 EUSD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631800" y="5489640"/>
            <a:ext cx="1762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22160" y="1406160"/>
            <a:ext cx="7772400" cy="25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19040" y="1600200"/>
            <a:ext cx="75996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ko iz 3x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v 3x </a:t>
            </a:r>
            <a:r>
              <a:rPr b="0" lang="sl-SI" sz="4400" spc="-1" strike="noStrike">
                <a:solidFill>
                  <a:srgbClr val="00b050"/>
                </a:solidFill>
                <a:latin typeface="Arial"/>
              </a:rPr>
              <a:t>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predelitev nacionalnega inte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rezen sistem upravljanja / človeški v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nergije finančnih vi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i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1 - Opredelitev nacionalnega interesa</a:t>
            </a:r>
            <a:br>
              <a:rPr sz="2500"/>
            </a:br>
            <a:r>
              <a:rPr b="1" lang="sl-SI" sz="2500" spc="-1" strike="noStrike">
                <a:solidFill>
                  <a:srgbClr val="ff0000"/>
                </a:solidFill>
                <a:latin typeface="Arial"/>
              </a:rPr>
              <a:t>SPOMLADANSKO POROČILO Vlade RS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a letna seznanitev Vlade RS o načrtovanih in izvedenih aktivnostih sodelujočih resorjev o vseh 3 M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5. maj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a letna obravnava poročila Vlade RS v Državnem zboru (OZP+OZ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junij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trezen sistem upravlj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si predstavniki Slovenije v strukturi upravljanja vseh 3 MRS imajo mandat Vlade RS, tudi nevladni  - CEF, UMB, O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ključevanje obstoječih struktur v Sloveniji – univerze, Poslovni angeli, zbornice, platforme –eRegions, združenja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novita medresorska koordinacija (MZZ-NK) za vse 3 MRS vključno z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ergije finančnih vi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dprta in redna komunikacija med MRS in 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S deležniki predstavljajo pomemben del sodelujočih na informativnih dneh T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litična podpora procesu "EMBEDDING" – ministrske deklaracije EUDSR, EUS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nergije finančnih vi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90160" y="1600200"/>
            <a:ext cx="83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ling"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projektov MRS še ni dosegel želenega rezultata k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a vrednost MRS projektov ni sistemsko priznana v procesu pridobivanja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kusi dodatnega točkovanja v okviru DANUBE in ADRION terjajo evalvacijo doseženih učin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522600" y="1562040"/>
            <a:ext cx="2210040" cy="143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6602400" y="2013120"/>
            <a:ext cx="2293920" cy="850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1035000" y="1636560"/>
            <a:ext cx="21384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4 -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dno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e ključnega pomena za medsektorsko usklajeno delovanje, za mreženje in doseganje sinergij ter potrebne kritične mase za delova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idnost pomeni vedenje kaj kdo d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5837400" y="4492800"/>
            <a:ext cx="2557440" cy="2084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6580080" y="5302080"/>
            <a:ext cx="10699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6-05-16T09:43:34Z</cp:lastPrinted>
  <dcterms:modified xsi:type="dcterms:W3CDTF">2016-05-16T09:43:51Z</dcterms:modified>
  <cp:revision>46</cp:revision>
  <dc:subject/>
  <dc:title>MAKROREGIONALNE STRATEGIJE V EU</dc:title>
</cp:coreProperties>
</file>